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63B4-C8F1-4E19-92D5-374B43A0A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rucial for personal, academic and workplace success in the Digital Age and blend very well in a digital storytelling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ral and written storytelling, as well as storytelling using digital and art skills, are involved in the creation of digital stories, and how all these literacies and forms of storytelling can reinforce each other.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Because it is how storytelling began and has endured for millennia. It has a history rich in timeless skills, perspective and sense of audience. Good teaching is often a matter of good storytelling. communication. 2Because it provides a skill set that can be used alone, as well as transferred to the digital storytelling format. Whether you're no tech, low tech or high tech, it informs your digital storytelling practic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Because video material of people telling oral stories will become increasingly important in digital storytelling. Video material has largely been excluded due to expense and complexity, but this is changing rapidly as digital video gets less expensive and easier to use. Video will present opportunities as well as challenges. The current de facto format for digital storytelling consists of still images with voice-over narration. This format is a relatively flexible, powerful, reflective approach to story creation. As video enters the digital storytelling arena we need to make sure we don't lose these qualiti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Because more and more students will tell stories with media accompaniment. Delivering a PowerPoint presentation is a good case in point. The average audience now expects a blend of media and oral presentation. Therefore, let's spend some of our educational energy focusing on oral presentation to help them be successfu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hile writing may not be the final product of a digital story, it is the students must take to create it. </a:t>
            </a:r>
            <a:br>
              <a:rPr sz="1200"/>
            </a:br>
            <a:br>
              <a:rPr sz="1200"/>
            </a:br>
            <a:r>
              <a:rPr b="0" lang="en-US" sz="1200" spc="-1" strike="noStrike">
                <a:solidFill>
                  <a:srgbClr val="000000"/>
                </a:solidFill>
                <a:latin typeface="Arial"/>
              </a:rPr>
              <a:t>Writing is the primary tool used to plan and create a digital story. The saying "if it ain't on the page then it ain't on the stage" is just as true for digital storytelling as it is for theater and movies. In fact, media production is a great way to engage kids in writing in an authentic way. Anecdotally, I have heard from teachers that students who don't want to write school reports are happy to write video plans and scripts because it is not perceived as "school work." </a:t>
            </a:r>
            <a:r>
              <a:rPr b="1" lang="en-US" sz="1200" spc="-1" strike="noStrike">
                <a:solidFill>
                  <a:srgbClr val="000000"/>
                </a:solidFill>
                <a:latin typeface="Arial"/>
              </a:rPr>
              <a:t>Bottom line:</a:t>
            </a:r>
            <a:r>
              <a:rPr b="0" lang="en-US" sz="1200" spc="-1" strike="noStrike">
                <a:solidFill>
                  <a:srgbClr val="000000"/>
                </a:solidFill>
                <a:latin typeface="Arial"/>
              </a:rPr>
              <a:t> No matter how sophisticated our technology becomes, the future of digital storytelling will involve writing and conventional forms of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writing skills that students employ in the process of creating their digital stories embrace many aspects of writing that are valued in school and the workplace. </a:t>
            </a:r>
            <a:br>
              <a:rPr sz="1200"/>
            </a:br>
            <a:br>
              <a:rPr sz="1200"/>
            </a:br>
            <a:r>
              <a:rPr b="0" lang="en-US" sz="1200" spc="-1" strike="noStrike">
                <a:solidFill>
                  <a:srgbClr val="000000"/>
                </a:solidFill>
                <a:latin typeface="Arial"/>
              </a:rPr>
              <a:t>Digital stories compel students to synthesize creative writing and personal reflection with clarity and organization. In the case of academic digital stories, writing is used to plan, script and create a story that demonstrates content area understand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ecause in a world in which students are required to create websites, digital stories and other forms of new media as part of their school work,. Thanks to our struggle to use, the language of art is taking center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ecause digital stories are essentially multimedia art projects, shaped by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ecause no matter what technologies await us in the future, we will try to tell stories with them, and to do so we will need t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oal in digital literacy is to use technology "effectively, creatively and wisely." That is, we want our students to master technological skills, to use technology as an imagination amplifier, and to see and evaluate technology and its impacts within the larger context of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dom we want our students to cultivate is both theoretical and practical. We want them to see and understand the persuasive power of technology and media, especially the power that flies beneath most people's radars. And there is no better way to "pull back the curtain and expose the wizard of technology OZ" than to have students create their own media. This is typically the domain of "media literac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literacy can be defined simply as "the ability to recognize, evaluate and apply the means of media persuasion." Digital storytelling provides rich "teachable moments" in regards to helping students become media literate. I recommend you make media literacy an explicit goal of your digital storytelling and new media projects. In my opin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d a revelation many years ago in a digital storytelling class. As the technology became more powerful, some of my students' stories became weaker. What I discovered was that some of my students were focusing on the power of the technology rather than the power of their stories - "gratuitous technologizing," I called it. That compelled me to hire an oral storyteller to work with my digital storytelling students before we added the technology to the storytelling process. The results in my classroom from using oral storytelling as a form of pre-production was transformational. Everyone's work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is workshop we learn the fundamentals of storytelling first, then focus on how to use technology to support the stories you want to tell in personal, engaging ways. Having a grasp of traditional storytelling will not only enrich your digital storytelling, but it will also allow you to use storytelling in your classroom whether your classroom is high tech, low tech or no te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6B94-3EA4-421C-A653-E8AB96189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5277E-C167-4FE3-BB93-78AFAF181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3A1B1-4A1C-4082-BC93-B0D4EC6D2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9F291-7EFA-4FDC-A2D9-B7B0915BC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4EBAD-543F-4BFF-A22E-39B05ABBE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0654C-EB73-4832-852C-423CA91EF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BECFC-31B7-4FB3-AD25-74EEFE6C5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9DFA9-066A-4038-B168-2D4642699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21211-1057-4CE2-AFA9-F13F0F11C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C578A-42CC-4520-B7BF-C0E9C3E1B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2A6EE-E42C-4CC7-A05C-C429F482F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6B3E-40CD-4EDF-8192-757C0DD66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9D13A-EB22-42BD-9AFC-303EFE1BB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CA815-22ED-429D-8F77-4F6F79EDF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4A29D-9746-41C5-B7D0-10C4CA913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BF81A-9566-402A-94EB-7B4BD40E8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37E21-223F-4A09-A935-F696B4FAA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BAD4F-DEF8-4E3F-B24A-0D046CE3C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3DB5C-7BFC-4A0D-B7CE-B4F55A9CC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24847-C589-418E-B17B-184AD6464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EE88C-CEDB-4E88-A572-97ABB6CEF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018A-C860-42FF-8D53-B456D242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FD83-7FF7-4B10-9115-1221293C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EFAA4-804E-415F-824C-D3F4A185E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7673-DEEC-4BC8-8211-E0101146522D}"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BF93-12F8-458F-BEBF-CED47C3FEDD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gital Storytelling</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tub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gital video is becoming the media of choic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students are comfortable with it.  Remember, they are natives, we are immigrant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 of Digital Storytelling</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mbining the long standing art of telling stories with any of a variety of available multimedia tools, including graphics, audio, video animation, and Web publish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mbines </a:t>
            </a:r>
            <a:r>
              <a:rPr b="1" lang="en-US" sz="3200" spc="-1" strike="noStrike">
                <a:solidFill>
                  <a:srgbClr val="000000"/>
                </a:solidFill>
                <a:latin typeface="Comic Sans MS"/>
              </a:rPr>
              <a:t>Digital, Art, Oral and Written literacie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gital, Art, Oral and Written literacies</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literacies rely on one anot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s literacy and expression in all area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oral storytelling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matter how high tech we become, telling stories to each other orally will endure as one of our primary and most powerful forms of communicat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will always be an important skill to have in the workplace, in our communities and in our school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writing important in digital storytelling?</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athwa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art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art is becoming the next literacy, or 4th 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Must teach multimedia effective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Need understand design - the grammar of a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digital literacy importan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igital literacy</a:t>
            </a:r>
            <a:r>
              <a:rPr b="0" lang="en-US" sz="3200" spc="-1" strike="noStrike">
                <a:solidFill>
                  <a:srgbClr val="000000"/>
                </a:solidFill>
                <a:latin typeface="Comic Sans MS"/>
              </a:rPr>
              <a:t> = using technology effectively, creatively and wisely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technology as an imagination amplifie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edia literac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dia literacy =</a:t>
            </a:r>
            <a:r>
              <a:rPr b="0" lang="en-US" sz="2800" spc="-1" strike="noStrike">
                <a:solidFill>
                  <a:srgbClr val="000000"/>
                </a:solidFill>
                <a:latin typeface="Comic Sans MS"/>
              </a:rPr>
              <a:t> Recognizing, evaluating and applying the methods of media persuas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 literacy an explicit goal of your digital storytelling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cannot understand how media persuades until they become media persuaders themselv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fferent kinds of stories and storytelling </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itting a bad story to digital media, is like giving a bad guitar player a bigger amplifier”  Jason Oh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2:01:13Z</dcterms:created>
  <dc:creator>Wauwatosa School District</dc:creator>
  <dc:description/>
  <dc:language>en-US</dc:language>
  <cp:lastModifiedBy>Wauwatosa School District</cp:lastModifiedBy>
  <dcterms:modified xsi:type="dcterms:W3CDTF">2007-09-19T02:01:47Z</dcterms:modified>
  <cp:revision>1</cp:revision>
  <dc:subject/>
  <dc:title>Digital Storytelling</dc:title>
</cp:coreProperties>
</file>